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EA7-6F45-41D4-AA50-0C6E018A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781-5DC2-49B2-8477-8672CC55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E7927-C110-4134-81F9-A917841E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2CB02-4070-45DF-84B2-441F6609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830F6-A016-4756-8926-C7481D45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696B9-4859-46D7-B5F2-2E5955C6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B9BFE-212B-4AA0-BE9F-43EEFFC1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E7EE7-B165-4DAE-98D2-547C1DDA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B5824-851B-4E95-A7F4-C8F4167B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B7B66-CA9D-4819-BDC8-BBB68DCF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A4B45-F790-4F15-A5CD-681A8C12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39A91-B205-4BF8-BDC9-98D19138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168-9345-4924-8BDF-40DC7CA4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6DB24-87E6-46A2-AD35-65FDBA41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756D9-6157-4949-88DD-B34AD730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7F9E1-3B9B-4C58-A3FC-D678B76E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9C236-B8AF-49E6-A27C-5CF2EF7E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09E41-52AA-411C-ADF8-E2E5FE10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4B684-5833-42D3-AA52-B3E72C86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6E48A-41AC-4B31-A7B0-D9894353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76EFD-B2EF-499F-BB2D-34548D5B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F5C46-4799-4F98-99EB-F35DF0C3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AE0FF-1112-4A58-93BE-CE97A846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97F-E555-466F-B0B7-0F8F1EA0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88E1C-BAD6-4031-92B4-2042BD68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FE1F5-645E-48DF-ADB6-1229DDC7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4877C-B925-4513-A3B4-B6F2DF0D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F8F7E-E4AE-460A-8033-57344971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6CCCE-C64F-445D-8ADE-58C18939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3D8D6-CC5E-4095-9232-A6896EC9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B785A-82BF-4023-BFE9-B083D045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30031-8A24-4672-82D4-9F7B181B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AEED8-64DF-4D6A-BAE9-865CB1C8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A41E4-2A98-4E31-AA06-98480B01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5C29-2B81-4491-A6DD-56F69E4E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E6FC7-189C-40EA-839C-DD966C48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146F7-8DC8-4885-A701-017BA6F7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CF98D-D650-46EF-9A77-28BEA824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91056-46E4-4A2E-BE40-7D010219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D06D7-7B1F-4070-8FAA-56A15FBE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AC460-7F39-4FB1-8D18-37DE77DE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67302-B7E6-4D60-8C71-0D334366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25842-91C7-40BE-8555-BFBF9FBF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F8FF9-F88E-4B89-BFC2-651531F9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07E1F-1C04-4993-8568-ABB241E5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AE9A-A18F-4C67-9F5D-71E58E53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C2BA9-42FE-441D-8457-20E88375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95782-51B0-4F1C-8B31-09B00DB2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6AEFB-D893-4627-8ADD-611CC0AD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9AE71-557C-4DE7-95D8-1353BFA8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120C5-5D5D-48E6-892F-1FBCB025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456C-188D-40B8-A1BA-41754DCD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4822-4B01-4C7A-A6CA-75EC9309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3E25-87D4-4F60-859E-2C7151AD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736A-EB2D-4AB7-8F94-89017561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8662-20F1-4B77-80C6-395BFA7B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AEE-71C6-4823-BFD5-BE9A5103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F286-1E5F-4D34-BDEE-76162E8D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4619-F5A4-4488-9C0F-78C1E2BA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5E2F-8E78-48BC-828E-DDA23262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5353-2A60-4183-A60A-6CAC9EC1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D0A5-715E-49CF-8A04-E2D704D9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503F7-FE96-4D62-A5AF-8E6507EF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C89CD-6683-4F6A-A72E-43E7F651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67D3A-89E6-4A7D-BBD6-9FBED274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683B6-FDA5-42FB-BEFB-8FC17017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D2C6A-CB65-48B8-A3B1-B4C8DE96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A7D-388B-4C8B-A7C0-72A62298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E7DEB-0729-43D4-8EEC-A1969397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050AF-4073-4AB2-993D-C4B60B24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B4129-4DEF-43D2-8186-4194DF8D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B13F5-B656-45FB-9000-D1C9C882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0A40-8670-46CA-8852-F3235EA8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F12D-50ED-4FF9-91F7-7ED2A070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01CB6-F63C-4D90-BCB8-632EE12B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F4F54-DBE5-4BD6-AA58-6BD62235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F0295-ED03-411C-9A12-765C8EB0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08075-C4A6-4E10-8186-60FC9A0E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D09-E36C-4BFE-B36C-EE858114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245EF-6644-408E-B8A2-59C3286E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2837-5258-4143-87E9-4684B40B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F9E3C-17E2-4C52-B1EE-60993477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89672-CB67-42F9-AECB-F62DB483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A29A9-4A58-4A36-B716-AE605869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41E9A-66E2-4CD2-9D54-3E432AFE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F5B52-84A0-4C9D-9E41-1E9D1572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8AF84-E597-4634-93E8-33D4B450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CB304-024F-4F19-AEC2-ACB5334A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CAA9C-E043-465D-B1FD-2D1737FC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551-08C8-4C50-BA31-D096BECA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A7ECA-72CC-4984-A8CC-B6D6663E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F91CE-7A39-4136-9870-011FE9E2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D9CE5-3E25-4A68-9C83-1F62F890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E19BF-5CFB-4DEE-9699-23573D27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11187-C4EB-4F05-A10B-508BC4FB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A2F08-4B68-43B8-9AF9-99C40A71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4EFE2-206D-447A-B3F6-6DA9A9BB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A9567-2404-4961-8F98-2DEA5275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93DB8-FD9B-47CB-8756-51C0C0C0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0B99B-FAD7-41FF-97DA-111C726C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964-CD89-4339-9B9A-B865C1FE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8FB3D-2026-46F7-9067-B1C50BEB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DC3D3-B23C-44DA-AE7E-C37AA0F4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D6CAC-EFF7-454E-A9CA-21CD0A85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3BF8E-BF2F-44DD-8C62-A4A2E912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E135A-2638-4F93-80BE-F2FC073C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1E811-380F-41A8-BD93-C7C115C3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64AA5-147C-400D-9761-8B5CB665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87CAC-342C-4D8B-AB8D-69B0896E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4A3B0-4230-4C3D-92DF-5356B351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0EFA9-9DFC-4875-8C8C-08855449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DDEB-3E2F-49EC-A0E4-2FA1D8D2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9C019-BD1C-4F28-BB53-29292056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8A323-4EEF-468F-93AB-14703471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65F02-1761-459D-98C4-CAEBAD8C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2DD1E-FD32-401E-B9B2-95E9FAEE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D6327-8D70-48FA-A3C7-943FB2BB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A3AC9-D05C-4E3C-9015-47125365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C4054-015A-4BCB-9BF5-772C42C7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5FD2E-D5B5-4661-BFBD-B14DAF83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0F064-D5C2-4079-B669-E625ADF5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B2A9F-7760-48E6-81EA-C77C2476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33D-EE05-46CB-B60B-EF776B9C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709D5-971B-469D-B6CA-7FEE272C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E933A-82D3-49E4-8B9A-C6234BE9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F0BA8-195D-4E4D-B808-BE414311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77D01-2C0D-4FFF-B93E-EECC2D72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235A8-7DA4-418B-BBE5-3B1F3CF2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4901E-0EFA-48F5-ABBE-5CF13B4B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A772C-77BC-47B8-9D33-E696FE1A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C891D-7F9B-4269-8422-F05995D7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00BE1-539D-4312-91B5-A4FE8C41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7AE27-E7C2-44C3-BDA0-CED088A2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83B-47B5-4939-8ACA-68FE4C2F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BE49D-2137-4A1B-9C18-005A0CAE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1C63E-6906-449B-9004-BFA4644D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BC652-A36D-4460-A4E6-D161AD3A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653A0-45FA-431D-B929-BAADD9A0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A4E6E-8AA6-44DF-9B58-E386CB09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64419-38FC-4892-9B40-0C2D6DC7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0E4D5-0A38-4C08-B430-DF311469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1ECB4-D73A-4BF1-85D8-E848D6F2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36709-91FE-4506-B546-4E2C0724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ED423-7D2C-44FB-9237-FD0F5D19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3FA9-A808-4B45-AE00-24AC6C7D3E7A}" type="slidenum"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4E11-6FD8-4F02-810F-AAEB83FF8505}" type="slidenum"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3942-CC74-4998-800A-5EC8BE3E6631}" type="slidenum"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CE05-FAF0-426D-B78E-6F393BAAB79D}" type="slidenum"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4BCA-EE17-4A23-B3DA-F48D0247CE78}" type="slidenum"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125A-1674-40B7-8D5A-2EA6615AC685}" type="slidenum"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2F98-C70A-42FC-A858-BA64AF936DFC}" type="slidenum"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021E-498A-4307-B928-3EAED736D27A}" type="slidenum"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443B-C30D-472A-BB9D-1642A6905984}" type="slidenum"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D206-A670-48A5-8C4F-AA75F7AA5A2A}" type="slidenum"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194C-32D6-4EAB-B95A-4BBF34B8796F}" type="slidenum"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A13C-7F86-4E60-A3F3-711CF1E79E36}" type="slidenum">
              <a:rPr b="0" lang="nl-BE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40.png"/><Relationship Id="rId41" Type="http://schemas.openxmlformats.org/officeDocument/2006/relationships/image" Target="../media/image41.png"/><Relationship Id="rId42" Type="http://schemas.openxmlformats.org/officeDocument/2006/relationships/image" Target="../media/image42.png"/><Relationship Id="rId43" Type="http://schemas.openxmlformats.org/officeDocument/2006/relationships/image" Target="../media/image43.png"/><Relationship Id="rId44" Type="http://schemas.openxmlformats.org/officeDocument/2006/relationships/image" Target="../media/image44.png"/><Relationship Id="rId45" Type="http://schemas.openxmlformats.org/officeDocument/2006/relationships/image" Target="../media/image45.png"/><Relationship Id="rId46" Type="http://schemas.openxmlformats.org/officeDocument/2006/relationships/image" Target="../media/image46.png"/><Relationship Id="rId47" Type="http://schemas.openxmlformats.org/officeDocument/2006/relationships/image" Target="../media/image47.png"/><Relationship Id="rId48" Type="http://schemas.openxmlformats.org/officeDocument/2006/relationships/image" Target="../media/image48.png"/><Relationship Id="rId49" Type="http://schemas.openxmlformats.org/officeDocument/2006/relationships/image" Target="../media/image49.png"/><Relationship Id="rId50" Type="http://schemas.openxmlformats.org/officeDocument/2006/relationships/image" Target="../media/image50.png"/><Relationship Id="rId51" Type="http://schemas.openxmlformats.org/officeDocument/2006/relationships/image" Target="../media/image51.png"/><Relationship Id="rId52" Type="http://schemas.openxmlformats.org/officeDocument/2006/relationships/image" Target="../media/image52.png"/><Relationship Id="rId53" Type="http://schemas.openxmlformats.org/officeDocument/2006/relationships/image" Target="../media/image53.png"/><Relationship Id="rId54" Type="http://schemas.openxmlformats.org/officeDocument/2006/relationships/image" Target="../media/image54.png"/><Relationship Id="rId55" Type="http://schemas.openxmlformats.org/officeDocument/2006/relationships/image" Target="../media/image55.png"/><Relationship Id="rId56" Type="http://schemas.openxmlformats.org/officeDocument/2006/relationships/image" Target="../media/image56.png"/><Relationship Id="rId57" Type="http://schemas.openxmlformats.org/officeDocument/2006/relationships/image" Target="../media/image57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62.png"/><Relationship Id="rId63" Type="http://schemas.openxmlformats.org/officeDocument/2006/relationships/image" Target="../media/image63.png"/><Relationship Id="rId64" Type="http://schemas.openxmlformats.org/officeDocument/2006/relationships/image" Target="../media/image64.png"/><Relationship Id="rId65" Type="http://schemas.openxmlformats.org/officeDocument/2006/relationships/image" Target="../media/image65.png"/><Relationship Id="rId66" Type="http://schemas.openxmlformats.org/officeDocument/2006/relationships/image" Target="../media/image66.png"/><Relationship Id="rId67" Type="http://schemas.openxmlformats.org/officeDocument/2006/relationships/image" Target="../media/image67.png"/><Relationship Id="rId68" Type="http://schemas.openxmlformats.org/officeDocument/2006/relationships/image" Target="../media/image68.png"/><Relationship Id="rId69" Type="http://schemas.openxmlformats.org/officeDocument/2006/relationships/image" Target="../media/image69.png"/><Relationship Id="rId70" Type="http://schemas.openxmlformats.org/officeDocument/2006/relationships/image" Target="../media/image70.png"/><Relationship Id="rId71" Type="http://schemas.openxmlformats.org/officeDocument/2006/relationships/image" Target="../media/image71.png"/><Relationship Id="rId72" Type="http://schemas.openxmlformats.org/officeDocument/2006/relationships/image" Target="../media/image72.png"/><Relationship Id="rId73" Type="http://schemas.openxmlformats.org/officeDocument/2006/relationships/image" Target="../media/image73.png"/><Relationship Id="rId74" Type="http://schemas.openxmlformats.org/officeDocument/2006/relationships/image" Target="../media/image74.png"/><Relationship Id="rId7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10.png"/><Relationship Id="rId4" Type="http://schemas.openxmlformats.org/officeDocument/2006/relationships/image" Target="../media/image17.png"/><Relationship Id="rId5" Type="http://schemas.openxmlformats.org/officeDocument/2006/relationships/image" Target="../media/image46.png"/><Relationship Id="rId6" Type="http://schemas.openxmlformats.org/officeDocument/2006/relationships/image" Target="../media/image10.png"/><Relationship Id="rId7" Type="http://schemas.openxmlformats.org/officeDocument/2006/relationships/image" Target="../media/image17.png"/><Relationship Id="rId8" Type="http://schemas.openxmlformats.org/officeDocument/2006/relationships/image" Target="../media/image46.png"/><Relationship Id="rId9" Type="http://schemas.openxmlformats.org/officeDocument/2006/relationships/image" Target="../media/image30.png"/><Relationship Id="rId10" Type="http://schemas.openxmlformats.org/officeDocument/2006/relationships/image" Target="../media/image7.png"/><Relationship Id="rId11" Type="http://schemas.openxmlformats.org/officeDocument/2006/relationships/image" Target="../media/image10.png"/><Relationship Id="rId12" Type="http://schemas.openxmlformats.org/officeDocument/2006/relationships/image" Target="../media/image17.png"/><Relationship Id="rId13" Type="http://schemas.openxmlformats.org/officeDocument/2006/relationships/image" Target="../media/image46.png"/><Relationship Id="rId14" Type="http://schemas.openxmlformats.org/officeDocument/2006/relationships/image" Target="../media/image34.png"/><Relationship Id="rId15" Type="http://schemas.openxmlformats.org/officeDocument/2006/relationships/image" Target="../media/image41.png"/><Relationship Id="rId16" Type="http://schemas.openxmlformats.org/officeDocument/2006/relationships/image" Target="../media/image42.png"/><Relationship Id="rId17" Type="http://schemas.openxmlformats.org/officeDocument/2006/relationships/image" Target="../media/image9.png"/><Relationship Id="rId18" Type="http://schemas.openxmlformats.org/officeDocument/2006/relationships/image" Target="../media/image26.png"/><Relationship Id="rId1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Afbeelding 4" descr="Afbeelding met Graphics, clipart, ontwerp&#10;&#10;Automatisch gegenereerde beschrijving"/>
          <p:cNvPicPr/>
          <p:nvPr/>
        </p:nvPicPr>
        <p:blipFill>
          <a:blip r:embed="rId1"/>
          <a:stretch/>
        </p:blipFill>
        <p:spPr>
          <a:xfrm>
            <a:off x="306360" y="200016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493" name="Afbeelding 6" descr=""/>
          <p:cNvPicPr/>
          <p:nvPr/>
        </p:nvPicPr>
        <p:blipFill>
          <a:blip r:embed="rId2"/>
          <a:stretch/>
        </p:blipFill>
        <p:spPr>
          <a:xfrm>
            <a:off x="8734320" y="197820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494" name="Afbeelding 8" descr="Afbeelding met Graphics&#10;&#10;Automatisch gegenereerde beschrijving"/>
          <p:cNvPicPr/>
          <p:nvPr/>
        </p:nvPicPr>
        <p:blipFill>
          <a:blip r:embed="rId3"/>
          <a:stretch/>
        </p:blipFill>
        <p:spPr>
          <a:xfrm>
            <a:off x="3265560" y="198900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495" name="Afbeelding 10" descr="Afbeelding met creativiteit, kunst&#10;&#10;Automatisch gegenereerde beschrijving"/>
          <p:cNvPicPr/>
          <p:nvPr/>
        </p:nvPicPr>
        <p:blipFill>
          <a:blip r:embed="rId4"/>
          <a:stretch/>
        </p:blipFill>
        <p:spPr>
          <a:xfrm>
            <a:off x="9455040" y="20001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496" name="Afbeelding 12" descr="Afbeelding met hart, creativiteit&#10;&#10;Automatisch gegenereerde beschrijving"/>
          <p:cNvPicPr/>
          <p:nvPr/>
        </p:nvPicPr>
        <p:blipFill>
          <a:blip r:embed="rId5"/>
          <a:stretch/>
        </p:blipFill>
        <p:spPr>
          <a:xfrm>
            <a:off x="4218120" y="20001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497" name="Afbeelding 14" descr="Afbeelding met kunst&#10;&#10;Beschrijving automatisch gegenereerd met lage betrouwbaarheid"/>
          <p:cNvPicPr/>
          <p:nvPr/>
        </p:nvPicPr>
        <p:blipFill>
          <a:blip r:embed="rId6"/>
          <a:stretch/>
        </p:blipFill>
        <p:spPr>
          <a:xfrm>
            <a:off x="1258920" y="200016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498" name="Afbeelding 16" descr="Afbeelding met creativiteit&#10;&#10;Automatisch gegenereerde beschrijving"/>
          <p:cNvPicPr/>
          <p:nvPr/>
        </p:nvPicPr>
        <p:blipFill>
          <a:blip r:embed="rId7"/>
          <a:stretch/>
        </p:blipFill>
        <p:spPr>
          <a:xfrm>
            <a:off x="10282320" y="200016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499" name="Afbeelding 18" descr="Afbeelding met Graphics, ontwerp&#10;&#10;Automatisch gegenereerde beschrijving"/>
          <p:cNvPicPr/>
          <p:nvPr/>
        </p:nvPicPr>
        <p:blipFill>
          <a:blip r:embed="rId8"/>
          <a:stretch/>
        </p:blipFill>
        <p:spPr>
          <a:xfrm>
            <a:off x="1258920" y="286056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500" name="Afbeelding 20" descr="Afbeelding met Graphics, grafische vormgeving, schermopname, clipart&#10;&#10;Automatisch gegenereerde beschrijving"/>
          <p:cNvPicPr/>
          <p:nvPr/>
        </p:nvPicPr>
        <p:blipFill>
          <a:blip r:embed="rId9"/>
          <a:stretch/>
        </p:blipFill>
        <p:spPr>
          <a:xfrm>
            <a:off x="227160" y="286056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501" name="Afbeelding 22" descr="Afbeelding met Graphics, clipart, creativiteit&#10;&#10;Automatisch gegenereerde beschrijving"/>
          <p:cNvPicPr/>
          <p:nvPr/>
        </p:nvPicPr>
        <p:blipFill>
          <a:blip r:embed="rId10"/>
          <a:stretch/>
        </p:blipFill>
        <p:spPr>
          <a:xfrm>
            <a:off x="7835760" y="197820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502" name="Afbeelding 24" descr="Afbeelding met Graphics, clipart, ontwerp&#10;&#10;Automatisch gegenereerde beschrijving"/>
          <p:cNvPicPr/>
          <p:nvPr/>
        </p:nvPicPr>
        <p:blipFill>
          <a:blip r:embed="rId11"/>
          <a:stretch/>
        </p:blipFill>
        <p:spPr>
          <a:xfrm>
            <a:off x="11118960" y="20001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03" name="Afbeelding 26" descr="Afbeelding met clipart, Graphics, ontwerp, kunst&#10;&#10;Automatisch gegenereerde beschrijving"/>
          <p:cNvPicPr/>
          <p:nvPr/>
        </p:nvPicPr>
        <p:blipFill>
          <a:blip r:embed="rId12"/>
          <a:stretch/>
        </p:blipFill>
        <p:spPr>
          <a:xfrm>
            <a:off x="6121440" y="20001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04" name="Afbeelding 28" descr="Afbeelding met groen, creativiteit&#10;&#10;Automatisch gegenereerde beschrijving"/>
          <p:cNvPicPr/>
          <p:nvPr/>
        </p:nvPicPr>
        <p:blipFill>
          <a:blip r:embed="rId13"/>
          <a:stretch/>
        </p:blipFill>
        <p:spPr>
          <a:xfrm>
            <a:off x="2211480" y="200016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05" name="Afbeelding 30" descr="Afbeelding met schermopname, groen, Graphics, Kleurrijkheid&#10;&#10;Automatisch gegenereerde beschrijving"/>
          <p:cNvPicPr/>
          <p:nvPr/>
        </p:nvPicPr>
        <p:blipFill>
          <a:blip r:embed="rId14"/>
          <a:stretch/>
        </p:blipFill>
        <p:spPr>
          <a:xfrm>
            <a:off x="6948360" y="1989000"/>
            <a:ext cx="505080" cy="503280"/>
          </a:xfrm>
          <a:prstGeom prst="rect">
            <a:avLst/>
          </a:prstGeom>
          <a:ln w="0">
            <a:noFill/>
          </a:ln>
        </p:spPr>
      </p:pic>
      <p:pic>
        <p:nvPicPr>
          <p:cNvPr id="506" name="Afbeelding 32" descr="Afbeelding met bril, brillen, symbool, Graphics&#10;&#10;Automatisch gegenereerde beschrijving"/>
          <p:cNvPicPr/>
          <p:nvPr/>
        </p:nvPicPr>
        <p:blipFill>
          <a:blip r:embed="rId15"/>
          <a:stretch/>
        </p:blipFill>
        <p:spPr>
          <a:xfrm>
            <a:off x="5168880" y="198900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07" name="Afbeelding 34" descr="Afbeelding met Graphics, clipart, ontwerp&#10;&#10;Automatisch gegenereerde beschrijving"/>
          <p:cNvPicPr/>
          <p:nvPr/>
        </p:nvPicPr>
        <p:blipFill>
          <a:blip r:embed="rId16"/>
          <a:stretch/>
        </p:blipFill>
        <p:spPr>
          <a:xfrm>
            <a:off x="1201680" y="40719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508" name="Afbeelding 36" descr=""/>
          <p:cNvPicPr/>
          <p:nvPr/>
        </p:nvPicPr>
        <p:blipFill>
          <a:blip r:embed="rId17"/>
          <a:stretch/>
        </p:blipFill>
        <p:spPr>
          <a:xfrm>
            <a:off x="306360" y="40719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509" name="Afbeelding 38" descr="Afbeelding met Graphics&#10;&#10;Automatisch gegenereerde beschrijving"/>
          <p:cNvPicPr/>
          <p:nvPr/>
        </p:nvPicPr>
        <p:blipFill>
          <a:blip r:embed="rId18"/>
          <a:stretch/>
        </p:blipFill>
        <p:spPr>
          <a:xfrm>
            <a:off x="4068720" y="40719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510" name="Afbeelding 40" descr="Afbeelding met kunst, creativiteit&#10;&#10;Beschrijving automatisch gegenereerd met gemiddelde betrouwbaarheid"/>
          <p:cNvPicPr/>
          <p:nvPr/>
        </p:nvPicPr>
        <p:blipFill>
          <a:blip r:embed="rId19"/>
          <a:stretch/>
        </p:blipFill>
        <p:spPr>
          <a:xfrm>
            <a:off x="2211480" y="409572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11" name="Afbeelding 42" descr="Afbeelding met hart&#10;&#10;Automatisch gegenereerde beschrijving"/>
          <p:cNvPicPr/>
          <p:nvPr/>
        </p:nvPicPr>
        <p:blipFill>
          <a:blip r:embed="rId20"/>
          <a:stretch/>
        </p:blipFill>
        <p:spPr>
          <a:xfrm>
            <a:off x="3106800" y="409572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12" name="Afbeelding 44" descr="Afbeelding met kunst&#10;&#10;Beschrijving automatisch gegenereerd met lage betrouwbaarheid"/>
          <p:cNvPicPr/>
          <p:nvPr/>
        </p:nvPicPr>
        <p:blipFill>
          <a:blip r:embed="rId21"/>
          <a:stretch/>
        </p:blipFill>
        <p:spPr>
          <a:xfrm>
            <a:off x="7407360" y="407196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513" name="Afbeelding 46" descr="Afbeelding met creativiteit&#10;&#10;Beschrijving automatisch gegenereerd met gemiddelde betrouwbaarheid"/>
          <p:cNvPicPr/>
          <p:nvPr/>
        </p:nvPicPr>
        <p:blipFill>
          <a:blip r:embed="rId22"/>
          <a:stretch/>
        </p:blipFill>
        <p:spPr>
          <a:xfrm>
            <a:off x="4843440" y="410544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514" name="Afbeelding 48" descr="Afbeelding met Graphics, ontwerp&#10;&#10;Automatisch gegenereerde beschrijving"/>
          <p:cNvPicPr/>
          <p:nvPr/>
        </p:nvPicPr>
        <p:blipFill>
          <a:blip r:embed="rId23"/>
          <a:stretch/>
        </p:blipFill>
        <p:spPr>
          <a:xfrm>
            <a:off x="5738760" y="4113360"/>
            <a:ext cx="504720" cy="502920"/>
          </a:xfrm>
          <a:prstGeom prst="rect">
            <a:avLst/>
          </a:prstGeom>
          <a:ln w="0">
            <a:noFill/>
          </a:ln>
        </p:spPr>
      </p:pic>
      <p:pic>
        <p:nvPicPr>
          <p:cNvPr id="515" name="Afbeelding 50" descr="Afbeelding met Graphics, schermopname, grafische vormgeving, ontwerp&#10;&#10;Automatisch gegenereerde beschrijving"/>
          <p:cNvPicPr/>
          <p:nvPr/>
        </p:nvPicPr>
        <p:blipFill>
          <a:blip r:embed="rId24"/>
          <a:stretch/>
        </p:blipFill>
        <p:spPr>
          <a:xfrm>
            <a:off x="8867880" y="40719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516" name="Afbeelding 52" descr="Afbeelding met clipart, Graphics, creativiteit&#10;&#10;Automatisch gegenereerde beschrijving"/>
          <p:cNvPicPr/>
          <p:nvPr/>
        </p:nvPicPr>
        <p:blipFill>
          <a:blip r:embed="rId25"/>
          <a:stretch/>
        </p:blipFill>
        <p:spPr>
          <a:xfrm>
            <a:off x="8137440" y="407196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517" name="Afbeelding 54" descr="Afbeelding met Graphics, clipart, Lettertype, ontwerp&#10;&#10;Automatisch gegenereerde beschrijving"/>
          <p:cNvPicPr/>
          <p:nvPr/>
        </p:nvPicPr>
        <p:blipFill>
          <a:blip r:embed="rId26"/>
          <a:stretch/>
        </p:blipFill>
        <p:spPr>
          <a:xfrm>
            <a:off x="6578640" y="409572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18" name="Afbeelding 56" descr="Afbeelding met clipart, ontwerp, kunst&#10;&#10;Automatisch gegenereerde beschrijving"/>
          <p:cNvPicPr/>
          <p:nvPr/>
        </p:nvPicPr>
        <p:blipFill>
          <a:blip r:embed="rId27"/>
          <a:stretch/>
        </p:blipFill>
        <p:spPr>
          <a:xfrm>
            <a:off x="2211480" y="299232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19" name="Afbeelding 58" descr="Afbeelding met creativiteit&#10;&#10;Automatisch gegenereerde beschrijving"/>
          <p:cNvPicPr/>
          <p:nvPr/>
        </p:nvPicPr>
        <p:blipFill>
          <a:blip r:embed="rId28"/>
          <a:stretch/>
        </p:blipFill>
        <p:spPr>
          <a:xfrm>
            <a:off x="11422080" y="407196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520" name="Afbeelding 60" descr="Afbeelding met schermopname, Graphics, groen, ontwerp&#10;&#10;Automatisch gegenereerde beschrijving"/>
          <p:cNvPicPr/>
          <p:nvPr/>
        </p:nvPicPr>
        <p:blipFill>
          <a:blip r:embed="rId29"/>
          <a:stretch/>
        </p:blipFill>
        <p:spPr>
          <a:xfrm>
            <a:off x="10571040" y="407196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521" name="Afbeelding 62" descr="Afbeelding met bril, symbool, brillen, Graphics&#10;&#10;Automatisch gegenereerde beschrijving"/>
          <p:cNvPicPr/>
          <p:nvPr/>
        </p:nvPicPr>
        <p:blipFill>
          <a:blip r:embed="rId30"/>
          <a:stretch/>
        </p:blipFill>
        <p:spPr>
          <a:xfrm>
            <a:off x="9720360" y="407196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522" name="Afbeelding 64" descr="Afbeelding met Graphics, clipart, ontwerp&#10;&#10;Automatisch gegenereerde beschrijving"/>
          <p:cNvPicPr/>
          <p:nvPr/>
        </p:nvPicPr>
        <p:blipFill>
          <a:blip r:embed="rId31"/>
          <a:stretch/>
        </p:blipFill>
        <p:spPr>
          <a:xfrm>
            <a:off x="1041480" y="289080"/>
            <a:ext cx="504720" cy="502920"/>
          </a:xfrm>
          <a:prstGeom prst="rect">
            <a:avLst/>
          </a:prstGeom>
          <a:ln w="0">
            <a:noFill/>
          </a:ln>
        </p:spPr>
      </p:pic>
      <p:pic>
        <p:nvPicPr>
          <p:cNvPr id="523" name="Afbeelding 66" descr="Afbeelding met kunst&#10;&#10;Beschrijving automatisch gegenereerd met lage betrouwbaarheid"/>
          <p:cNvPicPr/>
          <p:nvPr/>
        </p:nvPicPr>
        <p:blipFill>
          <a:blip r:embed="rId32"/>
          <a:stretch/>
        </p:blipFill>
        <p:spPr>
          <a:xfrm>
            <a:off x="239760" y="289080"/>
            <a:ext cx="503280" cy="502920"/>
          </a:xfrm>
          <a:prstGeom prst="rect">
            <a:avLst/>
          </a:prstGeom>
          <a:ln w="0">
            <a:noFill/>
          </a:ln>
        </p:spPr>
      </p:pic>
      <p:pic>
        <p:nvPicPr>
          <p:cNvPr id="524" name="Afbeelding 68" descr="Afbeelding met Graphics, schermopname, tekenfilm, ontwerp&#10;&#10;Automatisch gegenereerde beschrijving"/>
          <p:cNvPicPr/>
          <p:nvPr/>
        </p:nvPicPr>
        <p:blipFill>
          <a:blip r:embed="rId33"/>
          <a:stretch/>
        </p:blipFill>
        <p:spPr>
          <a:xfrm>
            <a:off x="2616120" y="289080"/>
            <a:ext cx="503280" cy="502920"/>
          </a:xfrm>
          <a:prstGeom prst="rect">
            <a:avLst/>
          </a:prstGeom>
          <a:ln w="0">
            <a:noFill/>
          </a:ln>
        </p:spPr>
      </p:pic>
      <p:pic>
        <p:nvPicPr>
          <p:cNvPr id="525" name="Afbeelding 70" descr="Afbeelding met Graphics, cirkel, kunst, creativiteit&#10;&#10;Automatisch gegenereerde beschrijving"/>
          <p:cNvPicPr/>
          <p:nvPr/>
        </p:nvPicPr>
        <p:blipFill>
          <a:blip r:embed="rId34"/>
          <a:stretch/>
        </p:blipFill>
        <p:spPr>
          <a:xfrm>
            <a:off x="1895400" y="289080"/>
            <a:ext cx="505080" cy="502920"/>
          </a:xfrm>
          <a:prstGeom prst="rect">
            <a:avLst/>
          </a:prstGeom>
          <a:ln w="0">
            <a:noFill/>
          </a:ln>
        </p:spPr>
      </p:pic>
      <p:pic>
        <p:nvPicPr>
          <p:cNvPr id="526" name="Afbeelding 72" descr="Afbeelding met hart&#10;&#10;Automatisch gegenereerde beschrijving"/>
          <p:cNvPicPr/>
          <p:nvPr/>
        </p:nvPicPr>
        <p:blipFill>
          <a:blip r:embed="rId35"/>
          <a:stretch/>
        </p:blipFill>
        <p:spPr>
          <a:xfrm>
            <a:off x="3349800" y="284040"/>
            <a:ext cx="502920" cy="505080"/>
          </a:xfrm>
          <a:prstGeom prst="rect">
            <a:avLst/>
          </a:prstGeom>
          <a:ln w="0">
            <a:noFill/>
          </a:ln>
        </p:spPr>
      </p:pic>
      <p:pic>
        <p:nvPicPr>
          <p:cNvPr id="527" name="Afbeelding 74" descr="Afbeelding met kunst&#10;&#10;Beschrijving automatisch gegenereerd met lage betrouwbaarheid"/>
          <p:cNvPicPr/>
          <p:nvPr/>
        </p:nvPicPr>
        <p:blipFill>
          <a:blip r:embed="rId36"/>
          <a:stretch/>
        </p:blipFill>
        <p:spPr>
          <a:xfrm>
            <a:off x="5726160" y="284040"/>
            <a:ext cx="503280" cy="505080"/>
          </a:xfrm>
          <a:prstGeom prst="rect">
            <a:avLst/>
          </a:prstGeom>
          <a:ln w="0">
            <a:noFill/>
          </a:ln>
        </p:spPr>
      </p:pic>
      <p:pic>
        <p:nvPicPr>
          <p:cNvPr id="528" name="Afbeelding 76" descr="Afbeelding met Graphics, creativiteit&#10;&#10;Automatisch gegenereerde beschrijving"/>
          <p:cNvPicPr/>
          <p:nvPr/>
        </p:nvPicPr>
        <p:blipFill>
          <a:blip r:embed="rId37"/>
          <a:stretch/>
        </p:blipFill>
        <p:spPr>
          <a:xfrm>
            <a:off x="4989600" y="284040"/>
            <a:ext cx="503280" cy="505080"/>
          </a:xfrm>
          <a:prstGeom prst="rect">
            <a:avLst/>
          </a:prstGeom>
          <a:ln w="0">
            <a:noFill/>
          </a:ln>
        </p:spPr>
      </p:pic>
      <p:pic>
        <p:nvPicPr>
          <p:cNvPr id="529" name="Afbeelding 78" descr="Afbeelding met Graphics, ontwerp&#10;&#10;Automatisch gegenereerde beschrijving"/>
          <p:cNvPicPr/>
          <p:nvPr/>
        </p:nvPicPr>
        <p:blipFill>
          <a:blip r:embed="rId38"/>
          <a:stretch/>
        </p:blipFill>
        <p:spPr>
          <a:xfrm>
            <a:off x="4151160" y="272880"/>
            <a:ext cx="505080" cy="503280"/>
          </a:xfrm>
          <a:prstGeom prst="rect">
            <a:avLst/>
          </a:prstGeom>
          <a:ln w="0">
            <a:noFill/>
          </a:ln>
        </p:spPr>
      </p:pic>
      <p:pic>
        <p:nvPicPr>
          <p:cNvPr id="530" name="Afbeelding 80" descr="Afbeelding met Graphics, schermopname, grafische vormgeving, ontwerp&#10;&#10;Automatisch gegenereerde beschrijving"/>
          <p:cNvPicPr/>
          <p:nvPr/>
        </p:nvPicPr>
        <p:blipFill>
          <a:blip r:embed="rId39"/>
          <a:stretch/>
        </p:blipFill>
        <p:spPr>
          <a:xfrm>
            <a:off x="6411960" y="27288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31" name="Afbeelding 82" descr="Afbeelding met Graphics, clipart, ontwerp&#10;&#10;Automatisch gegenereerde beschrijving"/>
          <p:cNvPicPr/>
          <p:nvPr/>
        </p:nvPicPr>
        <p:blipFill>
          <a:blip r:embed="rId40"/>
          <a:stretch/>
        </p:blipFill>
        <p:spPr>
          <a:xfrm>
            <a:off x="10634760" y="27288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32" name="Afbeelding 84" descr="Afbeelding met Graphics, clipart, schermopname, Lettertype&#10;&#10;Automatisch gegenereerde beschrijving"/>
          <p:cNvPicPr/>
          <p:nvPr/>
        </p:nvPicPr>
        <p:blipFill>
          <a:blip r:embed="rId41"/>
          <a:stretch/>
        </p:blipFill>
        <p:spPr>
          <a:xfrm>
            <a:off x="8913960" y="28404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533" name="Afbeelding 86" descr="Afbeelding met Graphics, clipart, ontwerp, kunst&#10;&#10;Automatisch gegenereerde beschrijving"/>
          <p:cNvPicPr/>
          <p:nvPr/>
        </p:nvPicPr>
        <p:blipFill>
          <a:blip r:embed="rId42"/>
          <a:stretch/>
        </p:blipFill>
        <p:spPr>
          <a:xfrm>
            <a:off x="7246800" y="29844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534" name="Afbeelding 88" descr="Afbeelding met Graphics, creativiteit&#10;&#10;Automatisch gegenereerde beschrijving"/>
          <p:cNvPicPr/>
          <p:nvPr/>
        </p:nvPicPr>
        <p:blipFill>
          <a:blip r:embed="rId43"/>
          <a:stretch/>
        </p:blipFill>
        <p:spPr>
          <a:xfrm>
            <a:off x="9717120" y="29844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535" name="Afbeelding 90" descr="Afbeelding met schermopname, Graphics, grafische vormgeving, Kleurrijkheid&#10;&#10;Automatisch gegenereerde beschrijving"/>
          <p:cNvPicPr/>
          <p:nvPr/>
        </p:nvPicPr>
        <p:blipFill>
          <a:blip r:embed="rId44"/>
          <a:stretch/>
        </p:blipFill>
        <p:spPr>
          <a:xfrm>
            <a:off x="11496600" y="29844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536" name="Afbeelding 92" descr="Afbeelding met bril, brillen, Graphics, symbool&#10;&#10;Automatisch gegenereerde beschrijving"/>
          <p:cNvPicPr/>
          <p:nvPr/>
        </p:nvPicPr>
        <p:blipFill>
          <a:blip r:embed="rId45"/>
          <a:stretch/>
        </p:blipFill>
        <p:spPr>
          <a:xfrm>
            <a:off x="8062920" y="33660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537" name="Afbeelding 122" descr="Afbeelding met sinaasappel, ontwerp&#10;&#10;Automatisch gegenereerde beschrijving"/>
          <p:cNvPicPr/>
          <p:nvPr/>
        </p:nvPicPr>
        <p:blipFill>
          <a:blip r:embed="rId46"/>
          <a:stretch/>
        </p:blipFill>
        <p:spPr>
          <a:xfrm>
            <a:off x="5846760" y="302580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38" name="Afbeelding 124" descr=""/>
          <p:cNvPicPr/>
          <p:nvPr/>
        </p:nvPicPr>
        <p:blipFill>
          <a:blip r:embed="rId47"/>
          <a:stretch/>
        </p:blipFill>
        <p:spPr>
          <a:xfrm>
            <a:off x="3106800" y="301320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39" name="Afbeelding 126" descr="Afbeelding met ontwerp, creativiteit&#10;&#10;Beschrijving automatisch gegenereerd met lage betrouwbaarheid"/>
          <p:cNvPicPr/>
          <p:nvPr/>
        </p:nvPicPr>
        <p:blipFill>
          <a:blip r:embed="rId48"/>
          <a:stretch/>
        </p:blipFill>
        <p:spPr>
          <a:xfrm>
            <a:off x="4071960" y="29811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40" name="Afbeelding 128" descr="Afbeelding met creativiteit, kunst&#10;&#10;Beschrijving automatisch gegenereerd met gemiddelde betrouwbaarheid"/>
          <p:cNvPicPr/>
          <p:nvPr/>
        </p:nvPicPr>
        <p:blipFill>
          <a:blip r:embed="rId49"/>
          <a:stretch/>
        </p:blipFill>
        <p:spPr>
          <a:xfrm>
            <a:off x="1176480" y="5064120"/>
            <a:ext cx="502920" cy="503280"/>
          </a:xfrm>
          <a:prstGeom prst="rect">
            <a:avLst/>
          </a:prstGeom>
          <a:ln w="0">
            <a:noFill/>
          </a:ln>
        </p:spPr>
      </p:pic>
      <p:pic>
        <p:nvPicPr>
          <p:cNvPr id="541" name="Afbeelding 130" descr="Afbeelding met hart, sinaasappel, creativiteit&#10;&#10;Automatisch gegenereerde beschrijving"/>
          <p:cNvPicPr/>
          <p:nvPr/>
        </p:nvPicPr>
        <p:blipFill>
          <a:blip r:embed="rId50"/>
          <a:stretch/>
        </p:blipFill>
        <p:spPr>
          <a:xfrm>
            <a:off x="239760" y="5073480"/>
            <a:ext cx="503280" cy="505080"/>
          </a:xfrm>
          <a:prstGeom prst="rect">
            <a:avLst/>
          </a:prstGeom>
          <a:ln w="0">
            <a:noFill/>
          </a:ln>
        </p:spPr>
      </p:pic>
      <p:pic>
        <p:nvPicPr>
          <p:cNvPr id="542" name="Afbeelding 132" descr=""/>
          <p:cNvPicPr/>
          <p:nvPr/>
        </p:nvPicPr>
        <p:blipFill>
          <a:blip r:embed="rId51"/>
          <a:stretch/>
        </p:blipFill>
        <p:spPr>
          <a:xfrm>
            <a:off x="4971960" y="292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43" name="Afbeelding 134" descr="Afbeelding met creativiteit&#10;&#10;Automatisch gegenereerde beschrijving"/>
          <p:cNvPicPr/>
          <p:nvPr/>
        </p:nvPicPr>
        <p:blipFill>
          <a:blip r:embed="rId52"/>
          <a:stretch/>
        </p:blipFill>
        <p:spPr>
          <a:xfrm>
            <a:off x="10701360" y="303516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544" name="Afbeelding 136" descr="Afbeelding met Graphics, ontwerp&#10;&#10;Automatisch gegenereerde beschrijving"/>
          <p:cNvPicPr/>
          <p:nvPr/>
        </p:nvPicPr>
        <p:blipFill>
          <a:blip r:embed="rId53"/>
          <a:stretch/>
        </p:blipFill>
        <p:spPr>
          <a:xfrm>
            <a:off x="2130480" y="5148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45" name="Afbeelding 138" descr="Afbeelding met Graphics, clipart, ontwerp, tekenfilm&#10;&#10;Automatisch gegenereerde beschrijving"/>
          <p:cNvPicPr/>
          <p:nvPr/>
        </p:nvPicPr>
        <p:blipFill>
          <a:blip r:embed="rId54"/>
          <a:stretch/>
        </p:blipFill>
        <p:spPr>
          <a:xfrm>
            <a:off x="6883560" y="299556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546" name="Afbeelding 140" descr="Afbeelding met clipart, Graphics, tekenfilm, creativiteit&#10;&#10;Automatisch gegenereerde beschrijving"/>
          <p:cNvPicPr/>
          <p:nvPr/>
        </p:nvPicPr>
        <p:blipFill>
          <a:blip r:embed="rId55"/>
          <a:stretch/>
        </p:blipFill>
        <p:spPr>
          <a:xfrm>
            <a:off x="1176480" y="1149480"/>
            <a:ext cx="502920" cy="504720"/>
          </a:xfrm>
          <a:prstGeom prst="rect">
            <a:avLst/>
          </a:prstGeom>
          <a:ln w="0">
            <a:noFill/>
          </a:ln>
        </p:spPr>
      </p:pic>
      <p:pic>
        <p:nvPicPr>
          <p:cNvPr id="547" name="Afbeelding 142" descr="Afbeelding met clipart, Graphics, ontwerp&#10;&#10;Automatisch gegenereerde beschrijving"/>
          <p:cNvPicPr/>
          <p:nvPr/>
        </p:nvPicPr>
        <p:blipFill>
          <a:blip r:embed="rId56"/>
          <a:stretch/>
        </p:blipFill>
        <p:spPr>
          <a:xfrm>
            <a:off x="306360" y="113976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48" name="Afbeelding 144" descr="Afbeelding met creativiteit&#10;&#10;Automatisch gegenereerde beschrijving"/>
          <p:cNvPicPr/>
          <p:nvPr/>
        </p:nvPicPr>
        <p:blipFill>
          <a:blip r:embed="rId57"/>
          <a:stretch/>
        </p:blipFill>
        <p:spPr>
          <a:xfrm>
            <a:off x="7859880" y="298116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49" name="Afbeelding 146" descr="Afbeelding met geel, schermopname, sinaasappel, Graphics&#10;&#10;Automatisch gegenereerde beschrijving"/>
          <p:cNvPicPr/>
          <p:nvPr/>
        </p:nvPicPr>
        <p:blipFill>
          <a:blip r:embed="rId58"/>
          <a:stretch/>
        </p:blipFill>
        <p:spPr>
          <a:xfrm>
            <a:off x="9772560" y="30132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50" name="Afbeelding 148" descr="Afbeelding met logo, symbool, Graphics, Lettertype&#10;&#10;Automatisch gegenereerde beschrijving"/>
          <p:cNvPicPr/>
          <p:nvPr/>
        </p:nvPicPr>
        <p:blipFill>
          <a:blip r:embed="rId59"/>
          <a:stretch/>
        </p:blipFill>
        <p:spPr>
          <a:xfrm>
            <a:off x="8796240" y="30193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51" name="Afbeelding 150" descr=""/>
          <p:cNvPicPr/>
          <p:nvPr/>
        </p:nvPicPr>
        <p:blipFill>
          <a:blip r:embed="rId60"/>
          <a:stretch/>
        </p:blipFill>
        <p:spPr>
          <a:xfrm>
            <a:off x="4761000" y="511956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552" name="Afbeelding 152" descr=""/>
          <p:cNvPicPr/>
          <p:nvPr/>
        </p:nvPicPr>
        <p:blipFill>
          <a:blip r:embed="rId61"/>
          <a:stretch/>
        </p:blipFill>
        <p:spPr>
          <a:xfrm>
            <a:off x="3149640" y="51148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553" name="Afbeelding 154" descr=""/>
          <p:cNvPicPr/>
          <p:nvPr/>
        </p:nvPicPr>
        <p:blipFill>
          <a:blip r:embed="rId62"/>
          <a:stretch/>
        </p:blipFill>
        <p:spPr>
          <a:xfrm>
            <a:off x="5740560" y="51544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554" name="Afbeelding 156" descr=""/>
          <p:cNvPicPr/>
          <p:nvPr/>
        </p:nvPicPr>
        <p:blipFill>
          <a:blip r:embed="rId63"/>
          <a:stretch/>
        </p:blipFill>
        <p:spPr>
          <a:xfrm>
            <a:off x="3986280" y="5073480"/>
            <a:ext cx="503280" cy="505080"/>
          </a:xfrm>
          <a:prstGeom prst="rect">
            <a:avLst/>
          </a:prstGeom>
          <a:ln w="0">
            <a:noFill/>
          </a:ln>
        </p:spPr>
      </p:pic>
      <p:pic>
        <p:nvPicPr>
          <p:cNvPr id="555" name="Afbeelding 158" descr=""/>
          <p:cNvPicPr/>
          <p:nvPr/>
        </p:nvPicPr>
        <p:blipFill>
          <a:blip r:embed="rId64"/>
          <a:stretch/>
        </p:blipFill>
        <p:spPr>
          <a:xfrm>
            <a:off x="7499520" y="513396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56" name="Afbeelding 160" descr=""/>
          <p:cNvPicPr/>
          <p:nvPr/>
        </p:nvPicPr>
        <p:blipFill>
          <a:blip r:embed="rId65"/>
          <a:stretch/>
        </p:blipFill>
        <p:spPr>
          <a:xfrm>
            <a:off x="6575400" y="513396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57" name="Afbeelding 162" descr=""/>
          <p:cNvPicPr/>
          <p:nvPr/>
        </p:nvPicPr>
        <p:blipFill>
          <a:blip r:embed="rId66"/>
          <a:stretch/>
        </p:blipFill>
        <p:spPr>
          <a:xfrm>
            <a:off x="1039680" y="6102360"/>
            <a:ext cx="505080" cy="503280"/>
          </a:xfrm>
          <a:prstGeom prst="rect">
            <a:avLst/>
          </a:prstGeom>
          <a:ln w="0">
            <a:noFill/>
          </a:ln>
        </p:spPr>
      </p:pic>
      <p:pic>
        <p:nvPicPr>
          <p:cNvPr id="558" name="Afbeelding 164" descr=""/>
          <p:cNvPicPr/>
          <p:nvPr/>
        </p:nvPicPr>
        <p:blipFill>
          <a:blip r:embed="rId67"/>
          <a:stretch/>
        </p:blipFill>
        <p:spPr>
          <a:xfrm>
            <a:off x="8550360" y="51339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59" name="Afbeelding 166" descr=""/>
          <p:cNvPicPr/>
          <p:nvPr/>
        </p:nvPicPr>
        <p:blipFill>
          <a:blip r:embed="rId68"/>
          <a:stretch/>
        </p:blipFill>
        <p:spPr>
          <a:xfrm>
            <a:off x="214200" y="607536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560" name="Afbeelding 168" descr=""/>
          <p:cNvPicPr/>
          <p:nvPr/>
        </p:nvPicPr>
        <p:blipFill>
          <a:blip r:embed="rId69"/>
          <a:stretch/>
        </p:blipFill>
        <p:spPr>
          <a:xfrm>
            <a:off x="4421160" y="616572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61" name="Afbeelding 170" descr=""/>
          <p:cNvPicPr/>
          <p:nvPr/>
        </p:nvPicPr>
        <p:blipFill>
          <a:blip r:embed="rId70"/>
          <a:stretch/>
        </p:blipFill>
        <p:spPr>
          <a:xfrm>
            <a:off x="3579840" y="613404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562" name="Afbeelding 172" descr=""/>
          <p:cNvPicPr/>
          <p:nvPr/>
        </p:nvPicPr>
        <p:blipFill>
          <a:blip r:embed="rId71"/>
          <a:stretch/>
        </p:blipFill>
        <p:spPr>
          <a:xfrm>
            <a:off x="2754360" y="607536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563" name="Afbeelding 174" descr=""/>
          <p:cNvPicPr/>
          <p:nvPr/>
        </p:nvPicPr>
        <p:blipFill>
          <a:blip r:embed="rId72"/>
          <a:stretch/>
        </p:blipFill>
        <p:spPr>
          <a:xfrm>
            <a:off x="1922400" y="610704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64" name="Afbeelding 176" descr=""/>
          <p:cNvPicPr/>
          <p:nvPr/>
        </p:nvPicPr>
        <p:blipFill>
          <a:blip r:embed="rId73"/>
          <a:stretch/>
        </p:blipFill>
        <p:spPr>
          <a:xfrm>
            <a:off x="6145200" y="616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65" name="Afbeelding 178" descr=""/>
          <p:cNvPicPr/>
          <p:nvPr/>
        </p:nvPicPr>
        <p:blipFill>
          <a:blip r:embed="rId74"/>
          <a:stretch/>
        </p:blipFill>
        <p:spPr>
          <a:xfrm>
            <a:off x="5330880" y="623736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Afbeelding 11" descr="Afbeelding met Lettertype, Graphics, grafische vormgeving, typografie&#10;&#10;Automatisch gegenereerde beschrijving"/>
          <p:cNvPicPr/>
          <p:nvPr/>
        </p:nvPicPr>
        <p:blipFill>
          <a:blip r:embed="rId1"/>
          <a:stretch/>
        </p:blipFill>
        <p:spPr>
          <a:xfrm>
            <a:off x="7751880" y="2541600"/>
            <a:ext cx="2385720" cy="1098360"/>
          </a:xfrm>
          <a:prstGeom prst="rect">
            <a:avLst/>
          </a:prstGeom>
          <a:ln w="0">
            <a:noFill/>
          </a:ln>
        </p:spPr>
      </p:pic>
      <p:pic>
        <p:nvPicPr>
          <p:cNvPr id="567" name="Afbeelding 13" descr="Afbeelding met Lettertype, Graphics, grafische vormgeving, typografie&#10;&#10;Automatisch gegenereerde beschrijving"/>
          <p:cNvPicPr/>
          <p:nvPr/>
        </p:nvPicPr>
        <p:blipFill>
          <a:blip r:embed="rId2"/>
          <a:stretch/>
        </p:blipFill>
        <p:spPr>
          <a:xfrm>
            <a:off x="7751880" y="2541600"/>
            <a:ext cx="2385720" cy="1098360"/>
          </a:xfrm>
          <a:prstGeom prst="rect">
            <a:avLst/>
          </a:prstGeom>
          <a:ln w="0">
            <a:noFill/>
          </a:ln>
        </p:spPr>
      </p:pic>
      <p:pic>
        <p:nvPicPr>
          <p:cNvPr id="568" name="Afbeelding 14" descr="Afbeelding met Graphics, clipart, creativiteit&#10;&#10;Automatisch gegenereerde beschrijving"/>
          <p:cNvPicPr/>
          <p:nvPr/>
        </p:nvPicPr>
        <p:blipFill>
          <a:blip r:embed="rId3"/>
          <a:stretch/>
        </p:blipFill>
        <p:spPr>
          <a:xfrm>
            <a:off x="9524880" y="248436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569" name="Afbeelding 15" descr=""/>
          <p:cNvPicPr/>
          <p:nvPr/>
        </p:nvPicPr>
        <p:blipFill>
          <a:blip r:embed="rId4"/>
          <a:stretch/>
        </p:blipFill>
        <p:spPr>
          <a:xfrm>
            <a:off x="8394840" y="3103560"/>
            <a:ext cx="528480" cy="528480"/>
          </a:xfrm>
          <a:prstGeom prst="rect">
            <a:avLst/>
          </a:prstGeom>
          <a:ln w="0">
            <a:noFill/>
          </a:ln>
        </p:spPr>
      </p:pic>
      <p:pic>
        <p:nvPicPr>
          <p:cNvPr id="570" name="Afbeelding 16" descr="Afbeelding met sinaasappel, ontwerp&#10;&#10;Automatisch gegenereerde beschrijving"/>
          <p:cNvPicPr/>
          <p:nvPr/>
        </p:nvPicPr>
        <p:blipFill>
          <a:blip r:embed="rId5"/>
          <a:stretch/>
        </p:blipFill>
        <p:spPr>
          <a:xfrm>
            <a:off x="7818480" y="3173400"/>
            <a:ext cx="458640" cy="458640"/>
          </a:xfrm>
          <a:prstGeom prst="rect">
            <a:avLst/>
          </a:prstGeom>
          <a:ln w="0">
            <a:noFill/>
          </a:ln>
        </p:spPr>
      </p:pic>
      <p:pic>
        <p:nvPicPr>
          <p:cNvPr id="571" name="Afbeelding 17" descr="Afbeelding met Graphics, clipart, creativiteit&#10;&#10;Automatisch gegenereerde beschrijving"/>
          <p:cNvPicPr/>
          <p:nvPr/>
        </p:nvPicPr>
        <p:blipFill>
          <a:blip r:embed="rId6"/>
          <a:stretch/>
        </p:blipFill>
        <p:spPr>
          <a:xfrm>
            <a:off x="6194520" y="246852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572" name="Afbeelding 18" descr=""/>
          <p:cNvPicPr/>
          <p:nvPr/>
        </p:nvPicPr>
        <p:blipFill>
          <a:blip r:embed="rId7"/>
          <a:stretch/>
        </p:blipFill>
        <p:spPr>
          <a:xfrm>
            <a:off x="5064120" y="308772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573" name="Afbeelding 19" descr="Afbeelding met sinaasappel, ontwerp&#10;&#10;Automatisch gegenereerde beschrijving"/>
          <p:cNvPicPr/>
          <p:nvPr/>
        </p:nvPicPr>
        <p:blipFill>
          <a:blip r:embed="rId8"/>
          <a:stretch/>
        </p:blipFill>
        <p:spPr>
          <a:xfrm>
            <a:off x="4487760" y="31575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74" name="Afbeelding 32" descr="Afbeelding met bril, symbool, brillen, Graphics&#10;&#10;Automatisch gegenereerde beschrijving"/>
          <p:cNvPicPr/>
          <p:nvPr/>
        </p:nvPicPr>
        <p:blipFill>
          <a:blip r:embed="rId9"/>
          <a:stretch/>
        </p:blipFill>
        <p:spPr>
          <a:xfrm>
            <a:off x="3149640" y="1258920"/>
            <a:ext cx="501480" cy="501480"/>
          </a:xfrm>
          <a:prstGeom prst="rect">
            <a:avLst/>
          </a:prstGeom>
          <a:ln w="0">
            <a:noFill/>
          </a:ln>
        </p:spPr>
      </p:pic>
      <p:pic>
        <p:nvPicPr>
          <p:cNvPr id="575" name="Afbeelding 34" descr="Afbeelding met creativiteit&#10;&#10;Automatisch gegenereerde beschrijving"/>
          <p:cNvPicPr/>
          <p:nvPr/>
        </p:nvPicPr>
        <p:blipFill>
          <a:blip r:embed="rId10"/>
          <a:stretch/>
        </p:blipFill>
        <p:spPr>
          <a:xfrm>
            <a:off x="6808680" y="4589640"/>
            <a:ext cx="528840" cy="528480"/>
          </a:xfrm>
          <a:prstGeom prst="rect">
            <a:avLst/>
          </a:prstGeom>
          <a:ln w="0">
            <a:noFill/>
          </a:ln>
        </p:spPr>
      </p:pic>
      <p:pic>
        <p:nvPicPr>
          <p:cNvPr id="576" name="Afbeelding 35" descr="Afbeelding met Graphics, clipart, creativiteit&#10;&#10;Automatisch gegenereerde beschrijving"/>
          <p:cNvPicPr/>
          <p:nvPr/>
        </p:nvPicPr>
        <p:blipFill>
          <a:blip r:embed="rId11"/>
          <a:stretch/>
        </p:blipFill>
        <p:spPr>
          <a:xfrm>
            <a:off x="8585280" y="455616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577" name="Afbeelding 36" descr=""/>
          <p:cNvPicPr/>
          <p:nvPr/>
        </p:nvPicPr>
        <p:blipFill>
          <a:blip r:embed="rId12"/>
          <a:stretch/>
        </p:blipFill>
        <p:spPr>
          <a:xfrm>
            <a:off x="7454880" y="5175360"/>
            <a:ext cx="528480" cy="527040"/>
          </a:xfrm>
          <a:prstGeom prst="rect">
            <a:avLst/>
          </a:prstGeom>
          <a:ln w="0">
            <a:noFill/>
          </a:ln>
        </p:spPr>
      </p:pic>
      <p:pic>
        <p:nvPicPr>
          <p:cNvPr id="578" name="Afbeelding 37" descr="Afbeelding met sinaasappel, ontwerp&#10;&#10;Automatisch gegenereerde beschrijving"/>
          <p:cNvPicPr/>
          <p:nvPr/>
        </p:nvPicPr>
        <p:blipFill>
          <a:blip r:embed="rId13"/>
          <a:stretch/>
        </p:blipFill>
        <p:spPr>
          <a:xfrm>
            <a:off x="6878520" y="5243400"/>
            <a:ext cx="459000" cy="459000"/>
          </a:xfrm>
          <a:prstGeom prst="rect">
            <a:avLst/>
          </a:prstGeom>
          <a:ln w="0">
            <a:noFill/>
          </a:ln>
        </p:spPr>
      </p:pic>
      <p:pic>
        <p:nvPicPr>
          <p:cNvPr id="579" name="Afbeelding 38" descr="Afbeelding met Graphics, cirkel, kunst, creativiteit&#10;&#10;Automatisch gegenereerde beschrijving"/>
          <p:cNvPicPr/>
          <p:nvPr/>
        </p:nvPicPr>
        <p:blipFill>
          <a:blip r:embed="rId14"/>
          <a:stretch/>
        </p:blipFill>
        <p:spPr>
          <a:xfrm>
            <a:off x="7520040" y="4589640"/>
            <a:ext cx="503280" cy="502920"/>
          </a:xfrm>
          <a:prstGeom prst="rect">
            <a:avLst/>
          </a:prstGeom>
          <a:ln w="0">
            <a:noFill/>
          </a:ln>
        </p:spPr>
      </p:pic>
      <p:pic>
        <p:nvPicPr>
          <p:cNvPr id="580" name="Afbeelding 39" descr="Afbeelding met Graphics, clipart, schermopname, Lettertype&#10;&#10;Automatisch gegenereerde beschrijving"/>
          <p:cNvPicPr/>
          <p:nvPr/>
        </p:nvPicPr>
        <p:blipFill>
          <a:blip r:embed="rId15"/>
          <a:stretch/>
        </p:blipFill>
        <p:spPr>
          <a:xfrm>
            <a:off x="8634240" y="5199120"/>
            <a:ext cx="528840" cy="528480"/>
          </a:xfrm>
          <a:prstGeom prst="rect">
            <a:avLst/>
          </a:prstGeom>
          <a:ln w="0">
            <a:noFill/>
          </a:ln>
        </p:spPr>
      </p:pic>
      <p:pic>
        <p:nvPicPr>
          <p:cNvPr id="581" name="Afbeelding 40" descr="Afbeelding met Graphics, clipart, ontwerp, kunst&#10;&#10;Automatisch gegenereerde beschrijving"/>
          <p:cNvPicPr/>
          <p:nvPr/>
        </p:nvPicPr>
        <p:blipFill>
          <a:blip r:embed="rId16"/>
          <a:stretch/>
        </p:blipFill>
        <p:spPr>
          <a:xfrm>
            <a:off x="8059680" y="5175360"/>
            <a:ext cx="527040" cy="527040"/>
          </a:xfrm>
          <a:prstGeom prst="rect">
            <a:avLst/>
          </a:prstGeom>
          <a:ln w="0">
            <a:noFill/>
          </a:ln>
        </p:spPr>
      </p:pic>
      <p:pic>
        <p:nvPicPr>
          <p:cNvPr id="582" name="Afbeelding 41" descr="Afbeelding met Graphics, grafische vormgeving, schermopname, clipart&#10;&#10;Automatisch gegenereerde beschrijving"/>
          <p:cNvPicPr/>
          <p:nvPr/>
        </p:nvPicPr>
        <p:blipFill>
          <a:blip r:embed="rId17"/>
          <a:stretch/>
        </p:blipFill>
        <p:spPr>
          <a:xfrm>
            <a:off x="8024760" y="4589640"/>
            <a:ext cx="503280" cy="501480"/>
          </a:xfrm>
          <a:prstGeom prst="rect">
            <a:avLst/>
          </a:prstGeom>
          <a:ln w="0">
            <a:noFill/>
          </a:ln>
        </p:spPr>
      </p:pic>
      <p:pic>
        <p:nvPicPr>
          <p:cNvPr id="583" name="Afbeelding 42" descr="Afbeelding met Graphics, clipart, Lettertype, ontwerp&#10;&#10;Automatisch gegenereerde beschrijving"/>
          <p:cNvPicPr/>
          <p:nvPr/>
        </p:nvPicPr>
        <p:blipFill>
          <a:blip r:embed="rId18"/>
          <a:stretch/>
        </p:blipFill>
        <p:spPr>
          <a:xfrm>
            <a:off x="8634240" y="5208480"/>
            <a:ext cx="528840" cy="5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4-11T17:19:33Z</dcterms:created>
  <dc:creator>Bas Witlox - Carpigiani</dc:creator>
  <dc:description/>
  <dc:language>en-US</dc:language>
  <cp:lastModifiedBy>Bas Witlox - Carpigiani</cp:lastModifiedBy>
  <dcterms:modified xsi:type="dcterms:W3CDTF">2024-04-12T09:54:08Z</dcterms:modified>
  <cp:revision>1</cp:revision>
  <dc:subject/>
  <dc:title>PowerPoint-presentatie</dc:title>
</cp:coreProperties>
</file>